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his%20is%20Jeopardy.wav" ContentType="audio/x-wav"/>
  <Override PartName="/ppt/media/image1.wmf" ContentType="image/x-wmf"/>
  <Override PartName="/ppt/media/jeop.wav" ContentType="audio/x-wav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3A7-C8DE-4A45-AE05-FD58045C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D3A-2C40-4456-9DEA-BE9573B5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633-30DB-4FE5-A1F3-A80B9B6D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F3D-370D-4D6B-B32E-8AA7CA3E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82B1-9571-412D-9DE6-DBB72353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0EC0-BAAD-4DCD-A8AD-38D595F4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B91F-85FE-4B31-A0F5-A903A6AE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9FF5-D1D0-4D11-9D08-E0183D0B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C265-3EEE-4F0D-A8F6-B4027352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9F95-360C-40B9-90C1-1EC7B959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00FD-F494-46C8-B348-E8422DA3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871-8260-40B4-A1D9-6196D5C2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2D0B-20FC-4EF6-B6E8-D843AA8D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2B3A-0985-48C7-BA89-21418BE7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79CD-88AB-4C03-A41C-1565B740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4083-143A-4002-874E-8D2732DE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C6FA-CF6A-4860-AC65-CBCE4232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371-3C8D-4D56-AF80-E1C192B8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76E-9D26-4B3E-897C-E8CC5A6C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16E-D1D8-4FFD-880A-D36E7475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794-9277-4060-BFC7-BE0F6EAC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35A-8602-4ADB-830F-9B4DD284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0CE-FA60-4F49-A18A-B7F8DE40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A8EA-E939-41A7-82A1-78BEECDB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84A8-2835-469A-BBA3-8B52E7141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8115-5F1C-4BF5-8B1F-77F0DEF00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his%20is%20Jeopardy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slide" Target="slide25.xml"/><Relationship Id="rId14" Type="http://schemas.openxmlformats.org/officeDocument/2006/relationships/slide" Target="slide35.xml"/><Relationship Id="rId15" Type="http://schemas.openxmlformats.org/officeDocument/2006/relationships/slide" Target="slide45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47.xml"/><Relationship Id="rId20" Type="http://schemas.openxmlformats.org/officeDocument/2006/relationships/slide" Target="slide19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21.xml"/><Relationship Id="rId25" Type="http://schemas.openxmlformats.org/officeDocument/2006/relationships/slide" Target="slide31.xml"/><Relationship Id="rId26" Type="http://schemas.openxmlformats.org/officeDocument/2006/relationships/slide" Target="slide41.xml"/><Relationship Id="rId27" Type="http://schemas.openxmlformats.org/officeDocument/2006/relationships/slide" Target="slide51.xml"/><Relationship Id="rId28" Type="http://schemas.openxmlformats.org/officeDocument/2006/relationships/slide" Target="slide53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912680" y="3168720"/>
            <a:ext cx="53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oss-pollin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762120" y="220968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law of segregation states that during fertilization, gametes randomly pair to produce this many combinations of allel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286000" y="316872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Fou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990720" y="2514600"/>
            <a:ext cx="787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ow cells produced in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Meiosis  differ from the original cell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57200" y="22860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y have half the number of chromosom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213372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re are this many divisions of Meiosi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62120" y="2286000"/>
            <a:ext cx="832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wo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Meiosis I &amp; Meiosis II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85800" y="2133720"/>
            <a:ext cx="76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eiosis begins with this type of cell, which has two complete sets of chromosom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914480" y="3168720"/>
            <a:ext cx="534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diploid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90720" y="2743200"/>
            <a:ext cx="769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Meiosis results in the formation of thes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4"/>
          <p:cNvSpPr/>
          <p:nvPr/>
        </p:nvSpPr>
        <p:spPr>
          <a:xfrm>
            <a:off x="898920" y="17524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86560" y="175248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net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96760" y="17524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h-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841080" y="17524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" y="26668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four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haploid gamet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990720" y="2209680"/>
            <a:ext cx="758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rossing over occur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In this phas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01480" y="3124080"/>
            <a:ext cx="629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Prophase I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914400" y="2514600"/>
            <a:ext cx="810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is possible genotype(s)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an result from the following cross: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T  X  t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899720" y="3168720"/>
            <a:ext cx="373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16600" y="2209680"/>
            <a:ext cx="858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is possible phenotype(s)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from the following cross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t X T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762120" y="243828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are Tall and shor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894680" y="3168720"/>
            <a:ext cx="691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homozygous tall plant is cross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a heterozygous tall plant.  Wh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the possible genotyp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891440" y="3168720"/>
            <a:ext cx="73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41320" y="2514600"/>
            <a:ext cx="723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ea plant heterozygous for he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seed color (TtYy), is crosse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ea plant heterozygous for height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homozygous for seed color (Ttyy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aw a Punnett square to represe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ro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3200400"/>
            <a:ext cx="81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ndel work with these pl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AutoShape 46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994320" y="2743200"/>
            <a:ext cx="709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 dihyrbid cross between a true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eeding tall plant with round se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a true-breeding short plant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rinkled seeds, what are the possibl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otypes of the F1 gener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893600" y="316872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have the genotype TtR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893240" y="3168720"/>
            <a:ext cx="657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failure of homologo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omosomes to separate proper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ring meiosis call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891800" y="316872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ndisjun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894680" y="31687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condition called when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ygote has an extra chromoso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891440" y="3168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iso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894320" y="3168720"/>
            <a:ext cx="64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condition called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zygote lacks a chromoso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90720" y="316872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oso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893240" y="316872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lyploidy frequently occurs in wha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nd of organism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911960" y="3168720"/>
            <a:ext cx="40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Pea Plan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891080" y="316872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893960" y="3168720"/>
            <a:ext cx="689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result of a zygote hav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tra #21 chromoso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890720" y="3168720"/>
            <a:ext cx="32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wn Syndr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893240" y="3168720"/>
            <a:ext cx="624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you flip a coin, what is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bability that it will be hea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891080" y="31687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894320" y="3168720"/>
            <a:ext cx="70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sults predicted by probabili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more likely to be seen when t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a (large or small) number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spr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891440" y="31687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r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891440" y="3168720"/>
            <a:ext cx="631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ue or Fal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always get the results sh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 Punnett squa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891080" y="31687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892520" y="3168720"/>
            <a:ext cx="638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following cross, what is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bability for each possibl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otype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g X 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76360" y="3048120"/>
            <a:ext cx="790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ctors that Gregor Mendel concluded 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ible for inherit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890360" y="3168720"/>
            <a:ext cx="191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G = 1/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g = 1/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g = 1/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892520" y="3168720"/>
            <a:ext cx="638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following cross, what is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bability for each phenotyp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gTt X GgT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 = gree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 = t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 = yellow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 = sh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891440" y="3168720"/>
            <a:ext cx="37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9 Green and T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Green and Sh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Yellow and T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Yellow and Sh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07800" y="2438280"/>
            <a:ext cx="84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the results of Mitosis differ from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ults of Meios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503000" y="2766960"/>
            <a:ext cx="7352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tosis results in 2 diploid cel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dentical to the parent cel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iosis results in 4 genetically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haploid cell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889280" y="3168720"/>
            <a:ext cx="51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68680" y="2819520"/>
            <a:ext cx="755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sulting phenotype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ndel’s cross between true-bree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ll plants and true-breeding short pl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890360" y="3168720"/>
            <a:ext cx="48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all plan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915920" y="316872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cess used by Mendel 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duce hybrid pl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lrobinson</cp:lastModifiedBy>
  <dcterms:modified xsi:type="dcterms:W3CDTF">2008-02-25T17:01:20Z</dcterms:modified>
  <cp:revision>97</cp:revision>
  <dc:subject/>
  <dc:title>Jeopardy</dc:title>
</cp:coreProperties>
</file>